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A6B-2087-44FC-9B0E-EFAB0886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8630-094F-45FC-8014-420C45B4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A8E1-28FB-4A8B-9C14-E5E8DD1A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17FC-FAD1-4E8B-9C22-5EE4ECD8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235B-4C2C-45F9-8775-F152BDED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37D0-5C18-4A7D-A8AD-1F3E5048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EB92-1986-4331-B630-9E1EB609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BBC6-00BF-4CF6-8A54-130ECE6C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8FCA-34A3-4128-B966-61D00FF8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532A-C58F-4851-9DCD-C1AA03D9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D645-A134-40A3-818E-3604BE6E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5714-3095-471B-A43A-1E35F7F0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d7"/>
            </a:gs>
            <a:gs pos="50000">
              <a:srgbClr val="ffab97"/>
            </a:gs>
            <a:gs pos="100000">
              <a:srgbClr val="8585d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2456-DC5E-409D-AD4E-662172E27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d7"/>
            </a:gs>
            <a:gs pos="50000">
              <a:srgbClr val="ffab97"/>
            </a:gs>
            <a:gs pos="100000">
              <a:srgbClr val="8585d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79250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EARTH’S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SIXTH GR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5053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STREAM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d7"/>
            </a:gs>
            <a:gs pos="50000">
              <a:srgbClr val="ffab97"/>
            </a:gs>
            <a:gs pos="100000">
              <a:srgbClr val="8585d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6502320" cy="4876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57150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8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d7"/>
            </a:gs>
            <a:gs pos="50000">
              <a:srgbClr val="ffab97"/>
            </a:gs>
            <a:gs pos="100000">
              <a:srgbClr val="8585d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6197760" cy="4648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57150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19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d7"/>
            </a:gs>
            <a:gs pos="50000">
              <a:srgbClr val="ffab97"/>
            </a:gs>
            <a:gs pos="100000">
              <a:srgbClr val="8585d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6502320" cy="4876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3520" y="57150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24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d7"/>
            </a:gs>
            <a:gs pos="50000">
              <a:srgbClr val="ffab97"/>
            </a:gs>
            <a:gs pos="100000">
              <a:srgbClr val="8585d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6426360" cy="4819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3520" y="57150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36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d7"/>
            </a:gs>
            <a:gs pos="50000">
              <a:srgbClr val="ffab97"/>
            </a:gs>
            <a:gs pos="100000">
              <a:srgbClr val="8585d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6807240" cy="5105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57150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0 hours (initial set-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d7"/>
            </a:gs>
            <a:gs pos="50000">
              <a:srgbClr val="ffab97"/>
            </a:gs>
            <a:gs pos="100000">
              <a:srgbClr val="8585d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6578640" cy="4934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57150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1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d7"/>
            </a:gs>
            <a:gs pos="50000">
              <a:srgbClr val="ffab97"/>
            </a:gs>
            <a:gs pos="100000">
              <a:srgbClr val="8585d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6730920" cy="5048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57150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2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d7"/>
            </a:gs>
            <a:gs pos="50000">
              <a:srgbClr val="ffab97"/>
            </a:gs>
            <a:gs pos="100000">
              <a:srgbClr val="8585d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6730920" cy="504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520" y="57150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3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d7"/>
            </a:gs>
            <a:gs pos="50000">
              <a:srgbClr val="ffab97"/>
            </a:gs>
            <a:gs pos="100000">
              <a:srgbClr val="8585d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6807240" cy="5105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57150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4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d7"/>
            </a:gs>
            <a:gs pos="50000">
              <a:srgbClr val="ffab97"/>
            </a:gs>
            <a:gs pos="100000">
              <a:srgbClr val="8585d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6807240" cy="510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520" y="57150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5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d7"/>
            </a:gs>
            <a:gs pos="50000">
              <a:srgbClr val="ffab97"/>
            </a:gs>
            <a:gs pos="100000">
              <a:srgbClr val="8585d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6426360" cy="4819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3520" y="57150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6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d7"/>
            </a:gs>
            <a:gs pos="50000">
              <a:srgbClr val="ffab97"/>
            </a:gs>
            <a:gs pos="100000">
              <a:srgbClr val="8585d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6502320" cy="4876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520" y="57150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7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20:27:24Z</dcterms:created>
  <dc:creator>Edward J. McGrath</dc:creator>
  <dc:description/>
  <dc:language>en-US</dc:language>
  <cp:lastModifiedBy>Administrator</cp:lastModifiedBy>
  <dcterms:modified xsi:type="dcterms:W3CDTF">2005-05-13T11:51:09Z</dcterms:modified>
  <cp:revision>4</cp:revision>
  <dc:subject/>
  <dc:title>Slide 1</dc:title>
</cp:coreProperties>
</file>